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dt" idx="1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P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4B79E-A052-4934-9948-5D90467AE320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6657BE-0AAD-4CB2-A2BE-851A364575E3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74BD47-4024-4622-9ED1-136BE2D85310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EEA653-EA0D-4027-B01D-7510147E2411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0159F3-8DDA-4FA4-81DB-92F663A440E5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0CC087-2B8D-4DF2-A596-5BE9DD9AA8DB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D6A38F-6FA3-42FB-8A74-529B328C6451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9DEA13-2186-4CA0-B9D4-A7427826E5C5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FB5C2A-F488-416F-BF18-32951AEA13E3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FE24-8A33-4509-8770-907CAF0A2C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D865-DF27-4408-8C1A-68D925BA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21CC-3BE0-42E9-90C3-51EBAE04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DB11A-7406-46CD-B950-06AF6D9E16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7DBB6-217D-436D-AFC9-9327EF3864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D664D-C544-4DC2-B9A8-F1E03E82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90B41-45BD-49EB-BAC1-0DD75482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65D92-13ED-4FFC-8BB4-7D420E14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1E26A-1297-4A1D-BBDF-9A4BA567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602D6-10FC-4432-9704-38414584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3A8BF-6387-46BF-B5D8-F3B3BAEB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375E1-5399-444F-8685-328D81A3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91700-3EE0-4F7E-AEE4-4C697EBA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F8CC7-83D3-4FC8-8F47-1B3A10E0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5BDEE-3370-45ED-9D9F-1530127F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59982-9D0C-4688-86B8-1D024659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A8F2C-C467-4C12-BA32-A718315660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374E-0197-4DC6-9C51-C00C83CB2C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7412-0D91-4C1E-9A5F-121F60CD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9DC5-8F1C-48EE-AF5A-90948526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FF7C-7580-484C-ABC8-5A39662F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8E40-45CE-44FF-A7F7-918F938F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444E-7D6D-4367-AD5B-DA87A43B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EEF6-A044-46D8-8C5B-CDD70B75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126A-FAFB-413A-B563-3DE4AD05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46A7-5CBA-419D-995A-3103DB9A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E7D6-2F22-4BEB-ADD2-B405B688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A098-A85C-41C5-8634-6E2CA1C2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7A4C-B422-4645-8780-2EE65EDB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3FDD-E803-4D0A-81AE-0E465248DB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0E85C-4931-4482-9EEE-888E27EF8D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F2663-1CE7-45B5-AC20-78E5BCA8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D69F1-DDD0-433F-8FD8-805A9E79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4B26-F6DF-4854-89DD-D3FA0DB9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0EFB2-2583-40E3-BF39-D2E88145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F8890-7A39-4847-8DC2-BE2BC84D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36EFC-F58C-49B2-BAD8-700E4212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7F6A9-2E07-4E35-86D9-729E18B9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2DEF3-4F31-4AEA-B63D-AA13D82A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C982F-853F-48F6-9815-16F6B2E8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62A86-CD0B-4391-BD1A-59037F7F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45A12-68B2-47FC-BF23-4DC2C1E7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C98FD-2B55-4683-9A2D-33E2C141A0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1A0019-E38F-471E-8397-7E5114296C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9888-EB8D-48C7-AECA-AF284D21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8017B8-9379-475B-9F11-538F7C05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651D55-0BFF-43A4-91C8-D389AAA4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09895B-E1DF-4C2E-B60F-63ADA3FC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A0CBCE-D39D-40CC-B574-98C9BDD8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F0126-FF95-44A4-ABDA-86E66FE7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CE658F-2646-48A0-AC12-70796857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379824-8C67-447F-9E4A-C0C69AB0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0D4F58-3F14-4A01-A970-8A58C95A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E0784A-E326-465D-8BB9-B2EBF8C5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EE9EAE-9D8D-4272-91F5-3D8A5583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FB19C-2655-4986-A3F3-98D8B7E2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3E63A5-79B4-4025-B7A9-DAED449996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72B14-53B0-42F1-AECB-D9F655C0A3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33D0D-17D3-4AE0-AD1E-0A4E3C00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CC095-80D4-471A-85F5-3F99CF98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88960-2CD5-4EC7-8ACF-0596CD3E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731C3-79B0-4BF6-B949-89865C44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21DBC-2D95-4730-84B6-D77F48E6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14C04-0568-4F7D-8AE2-CADC7D22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6D80-19F6-4935-A01B-834C2FB5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B8F27-D2CC-469C-9F96-02F57545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EE89-10AC-4B16-898F-972AF641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A9619-49F6-48B8-A1F3-AE26B11D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DE14A-72C5-46FB-9C56-DCC30C7C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0F48C-5C29-478E-AA22-0350BF9820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CA345-B4F8-4C10-BCBB-53FC2D3549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A57D1-9F59-40EA-A4A4-6E9BC86E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4F323C-7A90-41B3-99B2-5D9573AE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CD806-7E6C-4A4C-87BA-998F6779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B1486-0290-4865-9C03-7BCA1935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D2BA8-478F-41E3-BA46-A8FC023A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BD264D-F99F-455D-96BD-51BE59D2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AF59-95B4-483A-986D-A91408D4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CE0476-48F1-404F-831B-53FC3011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8C63F-A83A-4F03-A8E3-5AC072F0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9B2205-0DF9-43A1-B294-CF3EB4E5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EF786-2C50-4B4D-B545-15E222ED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F9E5F-5903-4D22-8E6F-BCFC558AEF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F310-5DD5-4DD9-9FB3-B0995977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572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46A299-3EA9-4763-BF29-FE0C3417EF9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572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9C234-4FB8-4934-9C41-9722F9C1D56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5C93A-AF50-4EC6-8380-46A5DADBFB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D7AA0-17F7-4F90-96BF-6E36C6E7469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4B14F-96E0-4B8F-B5AF-647390A895F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F958B-A384-48CA-A9B9-2A0202E2DE7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81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9B5A6-7EE8-479D-BB9C-DC6DED3F39A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hinkexist.com/quotation/consult_not_your_fears_but_your_hopes_and_your/8220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-687240"/>
            <a:ext cx="777240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resenting…</a:t>
            </a:r>
            <a:br>
              <a:rPr sz="3900"/>
            </a:br>
            <a:br>
              <a:rPr sz="3900"/>
            </a:br>
            <a:r>
              <a:rPr b="1" lang="en-US" sz="6000" spc="-1" strike="noStrike">
                <a:solidFill>
                  <a:srgbClr val="572314"/>
                </a:solidFill>
                <a:latin typeface="Harlow Solid Italic"/>
              </a:rPr>
              <a:t>“A fun learning experience in Algebra”</a:t>
            </a:r>
            <a:br>
              <a:rPr sz="3900"/>
            </a:br>
            <a:br>
              <a:rPr sz="3900"/>
            </a:b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4267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Hobo Std"/>
              </a:rPr>
              <a:t>Second Year High School</a:t>
            </a:r>
            <a:br>
              <a:rPr sz="2600"/>
            </a:br>
            <a:r>
              <a:rPr b="0" lang="en-US" sz="2600" spc="-1" strike="noStrike">
                <a:solidFill>
                  <a:srgbClr val="ff0000"/>
                </a:solidFill>
                <a:latin typeface="Hobo Std"/>
              </a:rPr>
              <a:t>June 2016 – June 2017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4b3e21"/>
                </a:solidFill>
                <a:latin typeface="Gill Sans MT"/>
              </a:rPr>
              <a:t>Ms. Virna Fe R. Gum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bjectives 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appreciate the role of mathematics in our daily liv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acquire and develop logical and critical think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openly accept challenges in lif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143000" y="46368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First Grading: Special Products, Factoring, and Quadratic Equations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"/>
          <p:cNvSpPr/>
          <p:nvPr/>
        </p:nvSpPr>
        <p:spPr>
          <a:xfrm>
            <a:off x="11430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ecial Products and Factor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adratic Equ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5410080" y="3352680"/>
            <a:ext cx="35290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066680" y="166680"/>
            <a:ext cx="82296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econd Grading: Rational Expressions and Equations and Rational Exponents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"/>
          <p:cNvSpPr/>
          <p:nvPr/>
        </p:nvSpPr>
        <p:spPr>
          <a:xfrm>
            <a:off x="10666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spcBef>
                <a:spcPts val="601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tional Expressions and Equ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tional Expon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2390760" y="2819520"/>
            <a:ext cx="6753240" cy="3381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 fill="hold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066680" y="31104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ird Grading: Radicals and Variation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"/>
          <p:cNvSpPr/>
          <p:nvPr/>
        </p:nvSpPr>
        <p:spPr>
          <a:xfrm>
            <a:off x="11430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spcBef>
                <a:spcPts val="601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dic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ari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4343400" y="1523880"/>
            <a:ext cx="3886200" cy="3676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143000" y="53964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Fourth Grading: Patterns in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lgebra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spcBef>
                <a:spcPts val="601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ries and Sequen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6172200" y="2057400"/>
            <a:ext cx="2610000" cy="361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 heart warming thought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o </a:t>
            </a:r>
            <a:r>
              <a:rPr b="1" lang="en-US" sz="2700" spc="-1" strike="noStrike">
                <a:solidFill>
                  <a:srgbClr val="ff0000"/>
                </a:solidFill>
                <a:latin typeface="Gill Sans MT"/>
              </a:rPr>
              <a:t>Love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is to risk not being loved in return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o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Hope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is to risk pain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o </a:t>
            </a:r>
            <a:r>
              <a:rPr b="1" lang="en-US" sz="2700" spc="-1" strike="noStrike">
                <a:solidFill>
                  <a:srgbClr val="7030a0"/>
                </a:solidFill>
                <a:latin typeface="Gill Sans MT"/>
              </a:rPr>
              <a:t>Try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is to risk failure, bu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700" spc="-1" strike="noStrike">
                <a:solidFill>
                  <a:srgbClr val="35436a"/>
                </a:solidFill>
                <a:latin typeface="Gill Sans MT"/>
              </a:rPr>
              <a:t>Risk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Gill Sans MT"/>
              </a:rPr>
              <a:t>must be taken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because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1" i="1" lang="en-US" sz="2700" spc="-1" strike="noStrike">
                <a:solidFill>
                  <a:srgbClr val="000000"/>
                </a:solidFill>
                <a:latin typeface="Gill Sans MT"/>
              </a:rPr>
              <a:t>greatest hazard in life is to risk nothing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~Pope John XXIII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ferences: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Gill Sans MT"/>
                <a:hlinkClick r:id="rId2"/>
              </a:rPr>
              <a:t>http://thinkexist.com/quotation/consult_not_your_fears_but_your_hopes_and_your/8220.htm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termediate Algebra Textbook, Gladys C. Nivera, Ph.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1:13:08Z</dcterms:created>
  <dc:creator>Juan1.doc</dc:creator>
  <dc:description/>
  <dc:language>en-US</dc:language>
  <cp:lastModifiedBy>virna</cp:lastModifiedBy>
  <dcterms:modified xsi:type="dcterms:W3CDTF">2012-10-01T00:05:07Z</dcterms:modified>
  <cp:revision>17</cp:revision>
  <dc:subject/>
  <dc:title>PowerPoint Presentation</dc:title>
</cp:coreProperties>
</file>